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DBA-5A96-4A75-8A55-ECCF6612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BC0-262C-4ABB-93DA-74799198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BE0-F576-41AC-A29E-160F67F3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B03-0D92-4B61-8FE1-0AC213A9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820-76CE-40FC-98E4-262DFF53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691-7CDD-4AD9-AE50-F6CEFC6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18F1-49BB-47D0-B47E-15A1435E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61A7-938D-4CEB-94DD-497BD3E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0C81-F048-4598-9AF7-A1D8E4E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002-809F-4D1E-B8DD-E66ADEB8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B60-73F7-49B0-92B9-D31F12B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836-4270-4132-8422-5D9AC95E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58B-0CA5-4CEF-812B-96E0C49B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CD6-40E4-446D-BCFB-B582EF6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5B25-14AA-4F40-AE30-84B7F74D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078-6F2F-4AB0-99DD-11FF75FF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F50E-B09C-47BC-A429-E9A85C17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8BF-4229-4CFD-8C20-3B78EAB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220-55E8-400D-92FB-2BB9D54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626-F683-4174-B3CB-963558B3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C8F-D1B9-4773-A777-507A88D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14C-871B-458A-B0AE-6B5F5842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BCB-19A0-465C-BF81-40189EF8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6CB-3680-402A-A83C-A9C39E9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004-C0BF-4279-9B9C-AF722E887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F32-4328-4F6B-9FA9-247CAF05EC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ff"/>
                </a:solidFill>
                <a:uFillTx/>
                <a:latin typeface="Baskerville Old Face"/>
              </a:rPr>
              <a:t>How successful was the League in the 1920’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Succe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50752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Aaland Islands, 19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Upper Silesia, 19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Economic collapse in Austria &amp; Hungary, 192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Greek-Bulgarian dispute, 19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Fail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581360"/>
            <a:ext cx="850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Vilna, 19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Corfu, 19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ffff"/>
                </a:solidFill>
                <a:uFillTx/>
                <a:latin typeface="Baskerville Old Face"/>
              </a:rPr>
              <a:t>The Success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Aaland Islands, 19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4653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Austria and Hungary were on the brink of bankruptcy due to reparations and weak economies after th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he league arranged international loans and helped them manage their fin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hey were able to begin economic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55736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Dispute over possession of the Aaland Islands between Sweden and 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Took it to the league, and they decided Finland should have the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askerville Old Face"/>
              </a:rPr>
              <a:t>Both countries accepted the league’s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6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Baskerville Old Face"/>
              </a:rPr>
              <a:t>Economic Collapse, Austria &amp; Hungary, 192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Upper Silesia, 19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A plebiscite area with large numbers of Germans and Poles living 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Voted to rejoin Germany by 700,000 to 42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League split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Germany got most of the land &amp;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Poland got most of the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askerville Old Face"/>
              </a:rPr>
              <a:t>Germany bitter about this, but both countries accepted the decision (messy compromi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The Greek-Bulgarian Dispute 19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66884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Greek-Bulgarian border the source of disp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After some violent incidents, Greece invaded Bulg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League condemned Greece’s actions and pressurised them to with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askerville Old Face"/>
              </a:rPr>
              <a:t>They did 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ffff"/>
                </a:solidFill>
                <a:uFillTx/>
                <a:latin typeface="Baskerville Old Face"/>
              </a:rPr>
              <a:t>The Failur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Vilna, 19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Vilna was part of the state of Lithuania, but had a mainly Polish population. Both countries want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Was occupied by Poland during the Russo-Polish war, and troops later refused to le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The league was reluctant to get involved as it would require armed forces, and Poland was seen as a useful ally against Germany and the Soviet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n the end, the League confirmed Poland’s occupation of Vil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Showed League as weak and basically us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Corfu, 192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talian surveyors working on the Greek side of the Greek-Albanian border were 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Mussolini demanded comp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When it didn’t come, he bombarded and occupied Corf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League wanted to condemn Italy, but major powers wouldn’t all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Instead they pressurised Greece to accept Italy’s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Only when they did, did Mussolini with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Showed League’s weakness in the face of a strong member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30:43Z</dcterms:created>
  <dc:creator>Home</dc:creator>
  <dc:description/>
  <dc:language>en-US</dc:language>
  <cp:lastModifiedBy>Home</cp:lastModifiedBy>
  <dcterms:modified xsi:type="dcterms:W3CDTF">2008-05-31T12:06:40Z</dcterms:modified>
  <cp:revision>4</cp:revision>
  <dc:subject/>
  <dc:title>How successful was the League in the 1920’s?</dc:title>
</cp:coreProperties>
</file>